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FCB-9DD9-495D-98B9-9D1B24ED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37C-F271-4D04-A28B-40F8BBA7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3D6-47D5-4149-AE0D-953EAB95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15B4-E614-4AD6-B82B-867E65B0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4E9-8BB7-4BAC-BE81-701DD959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745-DD0D-4A74-9F02-96B68878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AC4-233D-486D-9365-349936AC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7B7-1CDA-44D3-8AA2-BBE87041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F50-4074-4F03-85BD-0AD3A60D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18F-55F6-4E47-9A5D-12FB63AE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0B1-8145-4981-B194-52CA7697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AE3-E151-418B-9DC4-E82CF5BD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A6D7-E62B-4CBB-9A1B-84793EB139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phobos.den@yandex.ru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keldysh.ru/papers/2013/prep2013_68.pdf" TargetMode="External"/><Relationship Id="rId5" Type="http://schemas.openxmlformats.org/officeDocument/2006/relationships/hyperlink" Target="http://www.keldysh.ru/papers/2013/prep2013_68.pdf" TargetMode="External"/><Relationship Id="rId6" Type="http://schemas.openxmlformats.org/officeDocument/2006/relationships/hyperlink" Target="http://www.keldysh.ru/papers/2013/prep2013_68.pdf" TargetMode="External"/><Relationship Id="rId7" Type="http://schemas.openxmlformats.org/officeDocument/2006/relationships/hyperlink" Target="http://www.keldysh.ru/papers/2013/prep2013_68.pdf" TargetMode="External"/><Relationship Id="rId8" Type="http://schemas.openxmlformats.org/officeDocument/2006/relationships/hyperlink" Target="http://www.keldysh.ru/papers/2013/prep2013_68.pdf" TargetMode="External"/><Relationship Id="rId9" Type="http://schemas.openxmlformats.org/officeDocument/2006/relationships/hyperlink" Target="http://www.keldysh.ru/papers/2013/prep2013_68.pdf" TargetMode="External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Модель ДИСД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в проектах мягкой посадки на Луну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С.М. Лавренов,</a:t>
            </a:r>
            <a:r>
              <a:rPr b="1" i="1" lang="en-US" sz="1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А.Г. Тучин,</a:t>
            </a:r>
            <a:r>
              <a:rPr b="1" i="1" lang="en-US" sz="1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Д.А. Тучин,</a:t>
            </a:r>
            <a:r>
              <a:rPr b="1" i="1" lang="en-US" sz="1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В.С. Ярошевский</a:t>
            </a:r>
            <a:br>
              <a:rPr sz="1400"/>
            </a:b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(ИПМ им. М.В. Келдыша РАН)</a:t>
            </a:r>
            <a:r>
              <a:rPr b="1" lang="en-US" sz="1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_x000b_</a:t>
            </a:r>
            <a:br>
              <a:rPr sz="1400"/>
            </a:b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Д.А. Михайлин, В.В. Фитенко</a:t>
            </a:r>
            <a:br>
              <a:rPr sz="1400"/>
            </a:b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(ОАО «Концерн радиостроения «Вега»)</a:t>
            </a: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6453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vega_logo_transp"/>
          <p:cNvPicPr/>
          <p:nvPr/>
        </p:nvPicPr>
        <p:blipFill>
          <a:blip r:embed="rId4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vega_logo_transp"/>
          <p:cNvPicPr/>
          <p:nvPr/>
        </p:nvPicPr>
        <p:blipFill>
          <a:blip r:embed="rId5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547640" y="2602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енд аналого-цифрового комплек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слайд </a:t>
            </a:r>
            <a:fld id="{F8B5158C-B3D0-4370-8E8D-6A4B81E4EA0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pic1"/>
          <p:cNvPicPr/>
          <p:nvPr/>
        </p:nvPicPr>
        <p:blipFill>
          <a:blip r:embed="rId4"/>
          <a:stretch/>
        </p:blipFill>
        <p:spPr>
          <a:xfrm>
            <a:off x="108000" y="981000"/>
            <a:ext cx="5367240" cy="2565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DSC01291-2"/>
          <p:cNvPicPr/>
          <p:nvPr/>
        </p:nvPicPr>
        <p:blipFill>
          <a:blip r:embed="rId5"/>
          <a:stretch/>
        </p:blipFill>
        <p:spPr>
          <a:xfrm>
            <a:off x="3348000" y="2779560"/>
            <a:ext cx="56404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слайд </a:t>
            </a:r>
            <a:fld id="{95EC0D75-8ACE-4102-9C4C-D4A1B2CCDEB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2050920" y="2060640"/>
            <a:ext cx="5616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Построена математическая модель ДИСД. Приведены соотношения для расчетных измеренных значений дальности и скорости по лучам. Построена модель ошибок измер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Приведен алгоритм восстановления дальности по измерениям на разных частотах модуляции. Статистическое моделирование работы алгоритма показало безошибочность его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Математическое моделирование работы прибора ДИСД показывает, что при принятых моделях измерителя, прибор способен решать задачи при посадке на Лун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547640" y="2602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слайд </a:t>
            </a:r>
            <a:fld id="{FE9F3A7F-800D-4A37-92AF-AB9C0772330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2268360" y="278136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слайд </a:t>
            </a:r>
            <a:fld id="{382CE659-F58D-473A-9D52-584944C21B6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547640" y="2602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адка на Луну – «Луна-Глоб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24000" y="4653000"/>
            <a:ext cx="32400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ое торм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цизионное торможение (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650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лунение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40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324000" y="1125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5280" y="1268280"/>
            <a:ext cx="29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Траектория посад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22" descr="ka"/>
          <p:cNvPicPr/>
          <p:nvPr/>
        </p:nvPicPr>
        <p:blipFill>
          <a:blip r:embed="rId4"/>
          <a:stretch/>
        </p:blipFill>
        <p:spPr>
          <a:xfrm>
            <a:off x="3780000" y="836640"/>
            <a:ext cx="137160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pic1"/>
          <p:cNvPicPr/>
          <p:nvPr/>
        </p:nvPicPr>
        <p:blipFill>
          <a:blip r:embed="rId5"/>
          <a:stretch/>
        </p:blipFill>
        <p:spPr>
          <a:xfrm>
            <a:off x="395280" y="1557360"/>
            <a:ext cx="2970360" cy="302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3"/>
          <p:cNvSpPr/>
          <p:nvPr/>
        </p:nvSpPr>
        <p:spPr>
          <a:xfrm>
            <a:off x="4859280" y="2421000"/>
            <a:ext cx="38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Место посадки «Луна-Глоб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34" descr=""/>
          <p:cNvPicPr/>
          <p:nvPr/>
        </p:nvPicPr>
        <p:blipFill>
          <a:blip r:embed="rId6"/>
          <a:stretch/>
        </p:blipFill>
        <p:spPr>
          <a:xfrm>
            <a:off x="4859280" y="2708280"/>
            <a:ext cx="3886200" cy="2639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5"/>
          <p:cNvSpPr/>
          <p:nvPr/>
        </p:nvSpPr>
        <p:spPr>
          <a:xfrm>
            <a:off x="4932360" y="5445000"/>
            <a:ext cx="381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тер Богуславског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айоне Южного полюса (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~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3º ю.ш., 44º в.д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слайд </a:t>
            </a:r>
            <a:fld id="{D51B19F0-9CCD-429B-A21D-0C4110FD6EF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403280" y="260280"/>
            <a:ext cx="6410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оплеровский измерител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корости и дальности (ДИСД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826920" y="3357720"/>
            <a:ext cx="705672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ИСД используется на заключительном участке посадки на Лун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ИСД обеспечивает обнаружение и радиолокационный захват отраженного от подстилающей поверхности сигнал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ИСД измеряет наклонные дальности по четырем лучам антенной систем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ИСД измеряет проекции скорости на оси антенной систем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ИСД измеряет два угла отклонения нормали к поверхности от направления оси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Х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”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 ПСК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ля определения наклонных дальностей используется фазовый метод измерения дальности по разности набега фаз двух симметрично расположенных гармоник излучаемого частотно-модулированного сигнал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12" descr="disd_pic3"/>
          <p:cNvPicPr/>
          <p:nvPr/>
        </p:nvPicPr>
        <p:blipFill>
          <a:blip r:embed="rId4"/>
          <a:stretch/>
        </p:blipFill>
        <p:spPr>
          <a:xfrm>
            <a:off x="250920" y="1413000"/>
            <a:ext cx="2449440" cy="135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sd_pic2"/>
          <p:cNvPicPr/>
          <p:nvPr/>
        </p:nvPicPr>
        <p:blipFill>
          <a:blip r:embed="rId5"/>
          <a:stretch/>
        </p:blipFill>
        <p:spPr>
          <a:xfrm>
            <a:off x="3348000" y="1341360"/>
            <a:ext cx="2233800" cy="179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disd_pic1"/>
          <p:cNvPicPr/>
          <p:nvPr/>
        </p:nvPicPr>
        <p:blipFill>
          <a:blip r:embed="rId6"/>
          <a:stretch/>
        </p:blipFill>
        <p:spPr>
          <a:xfrm>
            <a:off x="6300720" y="1413000"/>
            <a:ext cx="23400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слайд </a:t>
            </a:r>
            <a:fld id="{E9AD8EE1-7FDD-44A1-980B-2B247B238FB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547640" y="2602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арактеристики ДИС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000" y="1413000"/>
          <a:ext cx="8569080" cy="4537080"/>
        </p:xfrm>
        <a:graphic>
          <a:graphicData uri="http://schemas.openxmlformats.org/drawingml/2006/table">
            <a:tbl>
              <a:tblPr/>
              <a:tblGrid>
                <a:gridCol w="6121080"/>
                <a:gridCol w="2448000"/>
              </a:tblGrid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апазон измеряемых скорост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±120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 относительной погрешности измерения скор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0.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апазон измеряемых наклонных дальност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5 – 4500 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 относительной погрешности измерений наклонной да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0.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апазон измеряемых уг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±20 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 погрешности измерения уг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.7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абари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0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 354 x 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Мас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9 к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сущая част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325 МГ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Длины полуволн частот модуля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438 м, 1829 м, 1463 м, 800 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слайд </a:t>
            </a:r>
            <a:fld id="{DDEF8F07-A4DA-4EB7-A286-7848BA2484B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547640" y="2602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правления измерительных лучей ДИС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7" descr="pic2"/>
          <p:cNvPicPr/>
          <p:nvPr/>
        </p:nvPicPr>
        <p:blipFill>
          <a:blip r:embed="rId4"/>
          <a:stretch/>
        </p:blipFill>
        <p:spPr>
          <a:xfrm>
            <a:off x="4500720" y="1628640"/>
            <a:ext cx="3733560" cy="2998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603360" y="2214720"/>
            <a:ext cx="345600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{-sin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ψ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 cos(</a:t>
            </a: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ψ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)cos(</a:t>
            </a: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φ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), -cos(</a:t>
            </a: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ψ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)sin(</a:t>
            </a: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φ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)}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ψ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=70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º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 Unicode MS"/>
              </a:rPr>
              <a:t>φ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=225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º-90º∙i, i=1,..,4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где 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</a:rPr>
              <a:t>ψ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 – угол отклонения оси луча антенны от плоскости OYZ; 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φ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– угловое положение i-го луча в проекции на плоскость OYZ, угол отсчитывается против часовой стрелки от оси O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слайд </a:t>
            </a:r>
            <a:fld id="{84FB8938-FFA2-440C-9F7A-980DCCA1996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547640" y="2602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лгоритм восстановления да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08000" y="1773360"/>
            <a:ext cx="439272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альность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 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о поверхности описывается соотношение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=n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∙L+B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где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n – 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целое число полуволн,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ahoma"/>
              </a:rPr>
              <a:t>L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–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ahoma"/>
              </a:rPr>
              <a:t>длина излучаемой полуволны,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B – 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неоднозначное измерение даль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ahoma"/>
              </a:rPr>
              <a:t>Для двух частот измерений по одному лучу имее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ahoma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D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 Unicode MS"/>
                <a:ea typeface="Tahoma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=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  <a:ea typeface="Tahoma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∙L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B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</a:rPr>
              <a:t>ε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=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∙L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B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</a:rPr>
              <a:t>ε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где 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</a:rPr>
              <a:t>ε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 Unicode MS"/>
              </a:rPr>
              <a:t>1 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и  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</a:rPr>
              <a:t>ε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–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 шумовые составляющ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Приравнивая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и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находим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=(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·L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+B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B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+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ε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ε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/L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ahoma"/>
              </a:rPr>
              <a:t>Уравнение решается методом перебора и минимизации отклонения правой части от целого числ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8" descr="pic15"/>
          <p:cNvPicPr/>
          <p:nvPr/>
        </p:nvPicPr>
        <p:blipFill>
          <a:blip r:embed="rId4"/>
          <a:stretch/>
        </p:blipFill>
        <p:spPr>
          <a:xfrm>
            <a:off x="4427640" y="1916280"/>
            <a:ext cx="4392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слайд </a:t>
            </a:r>
            <a:fld id="{E13362D6-E732-4609-95BF-AF2B47B3DFB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vega_logo_transp"/>
          <p:cNvPicPr/>
          <p:nvPr/>
        </p:nvPicPr>
        <p:blipFill>
          <a:blip r:embed="rId2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547640" y="2602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делирование раскрытия да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4"/>
          <a:stretch/>
        </p:blipFill>
        <p:spPr>
          <a:xfrm>
            <a:off x="1979640" y="981000"/>
            <a:ext cx="5686560" cy="4583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395280" y="5734080"/>
            <a:ext cx="842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Восстановление дальности при спуске с высоты 4500 м со скоростью 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м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/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с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При отработке алгоритмов раскрытия СКО относительной ошибки измерения дальности составляет 0.0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слайд </a:t>
            </a:r>
            <a:fld id="{949BE96E-5FAC-4290-BEF4-E6EACEFFEB9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547640" y="260280"/>
            <a:ext cx="6266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ределение вектора скор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нормали к поверх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50920" y="1484280"/>
            <a:ext cx="374472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поненты вектора скорости в связанной системе координат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x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=(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/(4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∙sin(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ψ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y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=(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-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-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/(2∙√2∙cos(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</a:rPr>
              <a:t>ψ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z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=(-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-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/(2 ∙√2∙ cos(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</a:rPr>
              <a:t>ψ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)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е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, v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v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 Unicode MS"/>
              </a:rPr>
              <a:t>3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v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 Unicode MS"/>
              </a:rPr>
              <a:t>4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змерения скорости по луч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572000" y="1484280"/>
            <a:ext cx="4103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Нормаль к плоскости поверхности Луны, определяемая по тройке измерений дальности, имеет вид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ijk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=(D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j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u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j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-D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u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x(D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k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u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k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-D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u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Если имеются измерения по всем четырем лучам, то определяются четыре нормали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4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, 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43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, 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43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, 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13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обавляем еще один вектор нормал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4231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(D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D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)x(D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D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пользуется осредненный вектор норма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n=(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4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 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43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 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43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13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 n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 Unicode MS"/>
              </a:rPr>
              <a:t>423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/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332000" y="5516640"/>
            <a:ext cx="7705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Unicode MS"/>
              </a:rPr>
              <a:t>Лавренов С.М., Михайлин Д.А., Тучин А.Г., Тучин Д.А., Фитенко В.В., Ярошевский В.С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Unicode MS"/>
              </a:rPr>
              <a:t>Математическая модель ДИСД в проектах мягкой посадки на Луну 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// </a:t>
            </a:r>
            <a:r>
              <a:rPr b="0" lang="ru-RU" sz="1000" spc="-1" strike="noStrike">
                <a:solidFill>
                  <a:srgbClr val="ffffff"/>
                </a:solidFill>
                <a:latin typeface="Arial Unicode MS"/>
              </a:rPr>
              <a:t>Препринт ИПМ им. М.В. Келдыша РАН №68 за 2013 г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URL: </a:t>
            </a:r>
            <a:r>
              <a:rPr b="0" lang="ru-RU" sz="1200" spc="-1" strike="noStrike" u="sng">
                <a:solidFill>
                  <a:srgbClr val="00ccff"/>
                </a:solidFill>
                <a:uFillTx/>
                <a:latin typeface="Arial Unicode MS"/>
                <a:hlinkClick r:id="rId4"/>
              </a:rPr>
              <a:t>http</a:t>
            </a:r>
            <a:r>
              <a:rPr b="0" lang="ru-RU" sz="1200" spc="-1" strike="noStrike" u="sng">
                <a:solidFill>
                  <a:srgbClr val="00ccff"/>
                </a:solidFill>
                <a:uFillTx/>
                <a:latin typeface="Arial Unicode MS"/>
                <a:hlinkClick r:id="rId5"/>
              </a:rPr>
              <a:t>://</a:t>
            </a:r>
            <a:r>
              <a:rPr b="0" lang="ru-RU" sz="1200" spc="-1" strike="noStrike" u="sng">
                <a:solidFill>
                  <a:srgbClr val="00ccff"/>
                </a:solidFill>
                <a:uFillTx/>
                <a:latin typeface="Arial Unicode MS"/>
                <a:hlinkClick r:id="rId6"/>
              </a:rPr>
              <a:t>www.keldysh.ru</a:t>
            </a:r>
            <a:r>
              <a:rPr b="0" lang="ru-RU" sz="1200" spc="-1" strike="noStrike" u="sng">
                <a:solidFill>
                  <a:srgbClr val="00ccff"/>
                </a:solidFill>
                <a:uFillTx/>
                <a:latin typeface="Arial Unicode MS"/>
                <a:hlinkClick r:id="rId7"/>
              </a:rPr>
              <a:t>/</a:t>
            </a:r>
            <a:r>
              <a:rPr b="0" lang="ru-RU" sz="1200" spc="-1" strike="noStrike" u="sng">
                <a:solidFill>
                  <a:srgbClr val="00ccff"/>
                </a:solidFill>
                <a:uFillTx/>
                <a:latin typeface="Arial Unicode MS"/>
                <a:hlinkClick r:id="rId8"/>
              </a:rPr>
              <a:t>papers</a:t>
            </a:r>
            <a:r>
              <a:rPr b="0" lang="ru-RU" sz="1200" spc="-1" strike="noStrike" u="sng">
                <a:solidFill>
                  <a:srgbClr val="00ccff"/>
                </a:solidFill>
                <a:uFillTx/>
                <a:latin typeface="Arial Unicode MS"/>
                <a:hlinkClick r:id="rId9"/>
              </a:rPr>
              <a:t>/2013/prep2013_68.pdf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9" descr="IMG_20140127_0001"/>
          <p:cNvPicPr/>
          <p:nvPr/>
        </p:nvPicPr>
        <p:blipFill>
          <a:blip r:embed="rId10"/>
          <a:stretch/>
        </p:blipFill>
        <p:spPr>
          <a:xfrm>
            <a:off x="250920" y="5084640"/>
            <a:ext cx="102240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4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vega_logo_transp"/>
          <p:cNvPicPr/>
          <p:nvPr/>
        </p:nvPicPr>
        <p:blipFill>
          <a:blip r:embed="rId5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6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vega_logo_transp"/>
          <p:cNvPicPr/>
          <p:nvPr/>
        </p:nvPicPr>
        <p:blipFill>
          <a:blip r:embed="rId7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2"/>
          <p:cNvSpPr/>
          <p:nvPr/>
        </p:nvSpPr>
        <p:spPr>
          <a:xfrm>
            <a:off x="1692360" y="260280"/>
            <a:ext cx="62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тематическая модель ДИС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8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5"/>
          <p:cNvSpPr/>
          <p:nvPr/>
        </p:nvSpPr>
        <p:spPr>
          <a:xfrm>
            <a:off x="250920" y="1125360"/>
            <a:ext cx="84978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Моделируемые ошибки ДИСД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Ошибка ориентации ДИСД в связанной СК задается шумом по кватерниону ориентаци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Ошибка отклонения лучей от плоскости фазовой решетк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Ошибка отклонения лучей от проектного положения в плоскости фазовой решетк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Ошибки исполнения частот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Ошибки измерения дальности и скорост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Ошибки телесного угла измерительного лу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7" descr=""/>
          <p:cNvPicPr/>
          <p:nvPr/>
        </p:nvPicPr>
        <p:blipFill>
          <a:blip r:embed="rId9"/>
          <a:stretch/>
        </p:blipFill>
        <p:spPr>
          <a:xfrm>
            <a:off x="5148360" y="3573360"/>
            <a:ext cx="3136680" cy="2167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8"/>
          <p:cNvSpPr/>
          <p:nvPr/>
        </p:nvSpPr>
        <p:spPr>
          <a:xfrm>
            <a:off x="5148360" y="587700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59"/>
          <p:cNvSpPr/>
          <p:nvPr/>
        </p:nvSpPr>
        <p:spPr>
          <a:xfrm>
            <a:off x="5148360" y="5805360"/>
            <a:ext cx="31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Модель луч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2" descr="MoonMIGAIKs70e24 copy"/>
          <p:cNvPicPr/>
          <p:nvPr/>
        </p:nvPicPr>
        <p:blipFill>
          <a:blip r:embed="rId10"/>
          <a:stretch/>
        </p:blipFill>
        <p:spPr>
          <a:xfrm>
            <a:off x="395280" y="3141720"/>
            <a:ext cx="3311640" cy="2924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3"/>
          <p:cNvSpPr/>
          <p:nvPr/>
        </p:nvSpPr>
        <p:spPr>
          <a:xfrm>
            <a:off x="395280" y="602136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нные МИГАиК о поверхности Лу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64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слайд </a:t>
            </a:r>
            <a:fld id="{BEF2C8D0-930C-47ED-B32F-DC7F256FBE1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8:37:11Z</dcterms:created>
  <dc:creator>den</dc:creator>
  <dc:description/>
  <dc:language>en-US</dc:language>
  <cp:lastModifiedBy>den</cp:lastModifiedBy>
  <dcterms:modified xsi:type="dcterms:W3CDTF">2014-01-30T13:19:32Z</dcterms:modified>
  <cp:revision>64</cp:revision>
  <dc:subject/>
  <dc:title>Слайд 1</dc:title>
</cp:coreProperties>
</file>