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E90B-5D1B-4028-BB3D-ED00E108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E393-2E19-48C0-872D-54294184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AF6-3E78-44FD-A704-AB1772B3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580-30EF-4533-9C46-54CF0538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E153-95A9-49BF-8FDE-A65E8D8C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7BD2-0148-4BE7-94B1-FBB9AD79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328-14FC-46DF-8893-73C178C9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3AC-413C-49CB-91DB-6A150BE5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D85-988C-4BF1-9F0F-D1BEC79E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C1B6-1CDD-47AC-8753-50C396B2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216-373D-42F0-BA85-2F5DBC3A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D82A-7B2D-4078-88B3-E600DF9E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751C-CCE0-4419-9A90-0C1C6D5438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phobos.den@yandex.ru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keldysh.ru/papers/2013/prep2013_68.pdf" TargetMode="External"/><Relationship Id="rId5" Type="http://schemas.openxmlformats.org/officeDocument/2006/relationships/hyperlink" Target="http://www.keldysh.ru/papers/2013/prep2013_68.pdf" TargetMode="External"/><Relationship Id="rId6" Type="http://schemas.openxmlformats.org/officeDocument/2006/relationships/hyperlink" Target="http://www.keldysh.ru/papers/2013/prep2013_68.pdf" TargetMode="External"/><Relationship Id="rId7" Type="http://schemas.openxmlformats.org/officeDocument/2006/relationships/hyperlink" Target="http://www.keldysh.ru/papers/2013/prep2013_68.pdf" TargetMode="External"/><Relationship Id="rId8" Type="http://schemas.openxmlformats.org/officeDocument/2006/relationships/hyperlink" Target="http://www.keldysh.ru/papers/2013/prep2013_68.pdf" TargetMode="External"/><Relationship Id="rId9" Type="http://schemas.openxmlformats.org/officeDocument/2006/relationships/hyperlink" Target="http://www.keldysh.ru/papers/2013/prep2013_68.pdf" TargetMode="External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91440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Модель ДИСД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в проектах мягкой посадки на Луну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С.М. Лавренов,</a:t>
            </a:r>
            <a:r>
              <a:rPr b="1" i="1" lang="en-US" sz="1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А.Г. Тучин,</a:t>
            </a:r>
            <a:r>
              <a:rPr b="1" i="1" lang="en-US" sz="1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Д.А. Тучин,</a:t>
            </a:r>
            <a:r>
              <a:rPr b="1" i="1" lang="en-US" sz="1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В.С. Ярошевский</a:t>
            </a:r>
            <a:br>
              <a:rPr sz="1400"/>
            </a:b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(ИПМ им. М.В. Келдыша РАН)</a:t>
            </a:r>
            <a:r>
              <a:rPr b="1" lang="en-US" sz="1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_x000b_</a:t>
            </a:r>
            <a:br>
              <a:rPr sz="1400"/>
            </a:b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Д.А. Михайлин, В.В. Фитенко</a:t>
            </a:r>
            <a:br>
              <a:rPr sz="1400"/>
            </a:br>
            <a:r>
              <a:rPr b="1" i="1" lang="ru-RU" sz="1400" spc="-1" strike="noStrike">
                <a:solidFill>
                  <a:srgbClr val="e5ffff"/>
                </a:solidFill>
                <a:latin typeface="Tahoma"/>
              </a:rPr>
              <a:t>(ОАО «Концерн радиостроения «Вега»)</a:t>
            </a: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0" y="6453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VIII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адемические чтения по космонавтике. Москва, январь 2014 г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vega_logo_transp"/>
          <p:cNvPicPr/>
          <p:nvPr/>
        </p:nvPicPr>
        <p:blipFill>
          <a:blip r:embed="rId4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vega_logo_transp"/>
          <p:cNvPicPr/>
          <p:nvPr/>
        </p:nvPicPr>
        <p:blipFill>
          <a:blip r:embed="rId5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vega_logo_transp"/>
          <p:cNvPicPr/>
          <p:nvPr/>
        </p:nvPicPr>
        <p:blipFill>
          <a:blip r:embed="rId3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1547640" y="260280"/>
            <a:ext cx="62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енд аналого-цифрового комплек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0" y="6613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VIII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адемические чтения по космонавтике. Москва, январь 2014 г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слайд </a:t>
            </a:r>
            <a:fld id="{2E8C38B0-7E62-449C-A028-890993429B9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pic1"/>
          <p:cNvPicPr/>
          <p:nvPr/>
        </p:nvPicPr>
        <p:blipFill>
          <a:blip r:embed="rId4"/>
          <a:stretch/>
        </p:blipFill>
        <p:spPr>
          <a:xfrm>
            <a:off x="108000" y="981000"/>
            <a:ext cx="5367240" cy="2565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DSC01291-2"/>
          <p:cNvPicPr/>
          <p:nvPr/>
        </p:nvPicPr>
        <p:blipFill>
          <a:blip r:embed="rId5"/>
          <a:stretch/>
        </p:blipFill>
        <p:spPr>
          <a:xfrm>
            <a:off x="3348000" y="2779560"/>
            <a:ext cx="56404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6613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VIII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адемические чтения по космонавтике. Москва, январь 2014 г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слайд </a:t>
            </a:r>
            <a:fld id="{82C1CBCA-039B-4FE4-9E5C-B185547AEE8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vega_logo_transp"/>
          <p:cNvPicPr/>
          <p:nvPr/>
        </p:nvPicPr>
        <p:blipFill>
          <a:blip r:embed="rId3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2050920" y="2060640"/>
            <a:ext cx="5616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Построена математическая модель ДИСД. Приведены соотношения для расчетных измеренных значений дальности и скорости по лучам. Построена модель ошибок измер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Приведен алгоритм восстановления дальности по измерениям на разных частотах модуляции. Статистическое моделирование работы алгоритма показало безошибочность его рабо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Математическое моделирование работы прибора ДИСД показывает, что при принятых моделях измерителя, прибор способен решать задачи при посадке на Лун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547640" y="260280"/>
            <a:ext cx="62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6613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VIII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адемические чтения по космонавтике. Москва, январь 2014 г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слайд </a:t>
            </a:r>
            <a:fld id="{A846187D-7CB7-4948-83BB-93345E3BF97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vega_logo_transp"/>
          <p:cNvPicPr/>
          <p:nvPr/>
        </p:nvPicPr>
        <p:blipFill>
          <a:blip r:embed="rId3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2268360" y="278136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6613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VIII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адемические чтения по космонавтике. Москва, январь 2014 г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слайд </a:t>
            </a:r>
            <a:fld id="{F6D562E9-9FB7-4BEF-A22D-6FF33C2EB01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vega_logo_transp"/>
          <p:cNvPicPr/>
          <p:nvPr/>
        </p:nvPicPr>
        <p:blipFill>
          <a:blip r:embed="rId3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547640" y="260280"/>
            <a:ext cx="62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садка на Луну – «Луна-Глоб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324000" y="4653000"/>
            <a:ext cx="32400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ое торм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цизионное торможение (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650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м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лунение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(40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м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324000" y="112536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5280" y="1268280"/>
            <a:ext cx="295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Траектория посад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22" descr="ka"/>
          <p:cNvPicPr/>
          <p:nvPr/>
        </p:nvPicPr>
        <p:blipFill>
          <a:blip r:embed="rId4"/>
          <a:stretch/>
        </p:blipFill>
        <p:spPr>
          <a:xfrm>
            <a:off x="3780000" y="836640"/>
            <a:ext cx="1371600" cy="158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" descr="pic1"/>
          <p:cNvPicPr/>
          <p:nvPr/>
        </p:nvPicPr>
        <p:blipFill>
          <a:blip r:embed="rId5"/>
          <a:stretch/>
        </p:blipFill>
        <p:spPr>
          <a:xfrm>
            <a:off x="395280" y="1557360"/>
            <a:ext cx="2970360" cy="3024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3"/>
          <p:cNvSpPr/>
          <p:nvPr/>
        </p:nvSpPr>
        <p:spPr>
          <a:xfrm>
            <a:off x="4859280" y="2421000"/>
            <a:ext cx="38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Место посадки «Луна-Глоб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34" descr=""/>
          <p:cNvPicPr/>
          <p:nvPr/>
        </p:nvPicPr>
        <p:blipFill>
          <a:blip r:embed="rId6"/>
          <a:stretch/>
        </p:blipFill>
        <p:spPr>
          <a:xfrm>
            <a:off x="4859280" y="2708280"/>
            <a:ext cx="3886200" cy="26398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5"/>
          <p:cNvSpPr/>
          <p:nvPr/>
        </p:nvSpPr>
        <p:spPr>
          <a:xfrm>
            <a:off x="4932360" y="5445000"/>
            <a:ext cx="3816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атер Богуславского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айоне Южного полюса (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~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3º ю.ш., 44º в.д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6613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VIII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адемические чтения по космонавтике. Москва, январь 2014 г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слайд </a:t>
            </a:r>
            <a:fld id="{2870C17F-8C65-4DD4-9CF0-F0002381401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vega_logo_transp"/>
          <p:cNvPicPr/>
          <p:nvPr/>
        </p:nvPicPr>
        <p:blipFill>
          <a:blip r:embed="rId3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1403280" y="260280"/>
            <a:ext cx="6410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оплеровский измерител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корости и дальности (ДИСД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826920" y="3357720"/>
            <a:ext cx="705672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ДИСД используется на заключительном участке посадки на Лун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ДИСД обеспечивает обнаружение и радиолокационный захват отраженного от подстилающей поверхности сигнал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ДИСД измеряет наклонные дальности по четырем лучам антенной системы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ДИСД измеряет проекции скорости на оси антенной системы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ДИСД измеряет два угла отклонения нормали к поверхности от направления оси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Х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”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 ПСК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Для определения наклонных дальностей используется фазовый метод измерения дальности по разности набега фаз двух симметрично расположенных гармоник излучаемого частотно-модулированного сигнал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12" descr="disd_pic3"/>
          <p:cNvPicPr/>
          <p:nvPr/>
        </p:nvPicPr>
        <p:blipFill>
          <a:blip r:embed="rId4"/>
          <a:stretch/>
        </p:blipFill>
        <p:spPr>
          <a:xfrm>
            <a:off x="250920" y="1413000"/>
            <a:ext cx="2449440" cy="135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isd_pic2"/>
          <p:cNvPicPr/>
          <p:nvPr/>
        </p:nvPicPr>
        <p:blipFill>
          <a:blip r:embed="rId5"/>
          <a:stretch/>
        </p:blipFill>
        <p:spPr>
          <a:xfrm>
            <a:off x="3348000" y="1341360"/>
            <a:ext cx="2233800" cy="179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disd_pic1"/>
          <p:cNvPicPr/>
          <p:nvPr/>
        </p:nvPicPr>
        <p:blipFill>
          <a:blip r:embed="rId6"/>
          <a:stretch/>
        </p:blipFill>
        <p:spPr>
          <a:xfrm>
            <a:off x="6300720" y="1413000"/>
            <a:ext cx="23400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6613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VIII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адемические чтения по космонавтике. Москва, январь 2014 г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слайд </a:t>
            </a:r>
            <a:fld id="{4EAD05E3-322B-4AB0-8833-0CF035C64D9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vega_logo_transp"/>
          <p:cNvPicPr/>
          <p:nvPr/>
        </p:nvPicPr>
        <p:blipFill>
          <a:blip r:embed="rId3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1547640" y="260280"/>
            <a:ext cx="62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арактеристики ДИС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4000" y="1413000"/>
          <a:ext cx="8569080" cy="4537080"/>
        </p:xfrm>
        <a:graphic>
          <a:graphicData uri="http://schemas.openxmlformats.org/drawingml/2006/table">
            <a:tbl>
              <a:tblPr/>
              <a:tblGrid>
                <a:gridCol w="6121080"/>
                <a:gridCol w="2448000"/>
              </a:tblGrid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апазон измеряемых скорост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±120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О относительной погрешности измерения скор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0.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апазон измеряемых наклонных дальност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5 – 4500 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О относительной погрешности измерений наклонной даль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0.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апазон измеряемых угл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±20 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О погрешности измерения угл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.7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абари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50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 354 x 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Масс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9 к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сущая част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3325 МГ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Длины полуволн частот модуля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438 м, 1829 м, 1463 м, 800 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6613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VIII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адемические чтения по космонавтике. Москва, январь 2014 г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слайд </a:t>
            </a:r>
            <a:fld id="{508EDC3A-6DC6-44B6-B5DD-0CAEEECAD41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vega_logo_transp"/>
          <p:cNvPicPr/>
          <p:nvPr/>
        </p:nvPicPr>
        <p:blipFill>
          <a:blip r:embed="rId3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547640" y="260280"/>
            <a:ext cx="62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правления измерительных лучей ДИС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7" descr="pic2"/>
          <p:cNvPicPr/>
          <p:nvPr/>
        </p:nvPicPr>
        <p:blipFill>
          <a:blip r:embed="rId4"/>
          <a:stretch/>
        </p:blipFill>
        <p:spPr>
          <a:xfrm>
            <a:off x="4500720" y="1628640"/>
            <a:ext cx="3733560" cy="29988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603360" y="2214720"/>
            <a:ext cx="3456000" cy="19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{-sin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ψ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 cos(</a:t>
            </a: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ψ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)cos(</a:t>
            </a: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φ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), -cos(</a:t>
            </a: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ψ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)sin(</a:t>
            </a: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φ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)}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ψ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=70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º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 Unicode MS"/>
              </a:rPr>
              <a:t>φ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i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=225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º-90º∙i, i=1,..,4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где </a:t>
            </a:r>
            <a:r>
              <a:rPr b="0" lang="el-GR" sz="1200" spc="-1" strike="noStrike">
                <a:solidFill>
                  <a:srgbClr val="ffffff"/>
                </a:solidFill>
                <a:latin typeface="Arial Unicode MS"/>
              </a:rPr>
              <a:t>ψ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 – угол отклонения оси луча антенны от плоскости OYZ; </a:t>
            </a:r>
            <a:r>
              <a:rPr b="0" lang="el-GR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φ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  <a:ea typeface="Arial Unicode MS"/>
              </a:rPr>
              <a:t>i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– угловое положение i-го луча в проекции на плоскость OYZ, угол отсчитывается против часовой стрелки от оси O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6613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VIII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адемические чтения по космонавтике. Москва, январь 2014 г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слайд </a:t>
            </a:r>
            <a:fld id="{479E6245-5F1E-46C7-8C35-D05DCC68B26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vega_logo_transp"/>
          <p:cNvPicPr/>
          <p:nvPr/>
        </p:nvPicPr>
        <p:blipFill>
          <a:blip r:embed="rId3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547640" y="260280"/>
            <a:ext cx="62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лгоритм восстановления даль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08000" y="1773360"/>
            <a:ext cx="439272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Дальность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D 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до поверхности описывается соотношением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D=n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∙L+B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где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n – 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целое число полуволн,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ahoma"/>
              </a:rPr>
              <a:t>L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–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ahoma"/>
              </a:rPr>
              <a:t>длина излучаемой полуволны,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B – 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неоднозначное измерение дальност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ahoma"/>
              </a:rPr>
              <a:t>Для двух частот измерений по одному лучу имеем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ahoma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D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 Unicode MS"/>
                <a:ea typeface="Tahoma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=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  <a:ea typeface="Tahoma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∙L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B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</a:t>
            </a:r>
            <a:r>
              <a:rPr b="0" lang="el-GR" sz="1200" spc="-1" strike="noStrike">
                <a:solidFill>
                  <a:srgbClr val="ffffff"/>
                </a:solidFill>
                <a:latin typeface="Arial Unicode MS"/>
              </a:rPr>
              <a:t>ε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D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=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∙L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B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</a:t>
            </a:r>
            <a:r>
              <a:rPr b="0" lang="el-GR" sz="1200" spc="-1" strike="noStrike">
                <a:solidFill>
                  <a:srgbClr val="ffffff"/>
                </a:solidFill>
                <a:latin typeface="Arial Unicode MS"/>
              </a:rPr>
              <a:t>ε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,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где </a:t>
            </a:r>
            <a:r>
              <a:rPr b="0" lang="el-GR" sz="1200" spc="-1" strike="noStrike">
                <a:solidFill>
                  <a:srgbClr val="ffffff"/>
                </a:solidFill>
                <a:latin typeface="Arial Unicode MS"/>
              </a:rPr>
              <a:t>ε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 Unicode MS"/>
              </a:rPr>
              <a:t>1 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и  </a:t>
            </a:r>
            <a:r>
              <a:rPr b="0" lang="el-GR" sz="1200" spc="-1" strike="noStrike">
                <a:solidFill>
                  <a:srgbClr val="ffffff"/>
                </a:solidFill>
                <a:latin typeface="Arial Unicode MS"/>
              </a:rPr>
              <a:t>ε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–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 шумовые составляющи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Приравнивая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D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и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D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, 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находим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=(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·L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+B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B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+</a:t>
            </a:r>
            <a:r>
              <a:rPr b="0" lang="el-GR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ε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</a:t>
            </a:r>
            <a:r>
              <a:rPr b="0" lang="el-GR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ε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)/L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ahoma"/>
              </a:rPr>
              <a:t>Уравнение решается методом перебора и минимизации отклонения правой части от целого числ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8" descr="pic15"/>
          <p:cNvPicPr/>
          <p:nvPr/>
        </p:nvPicPr>
        <p:blipFill>
          <a:blip r:embed="rId4"/>
          <a:stretch/>
        </p:blipFill>
        <p:spPr>
          <a:xfrm>
            <a:off x="4427640" y="1916280"/>
            <a:ext cx="4392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6613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VIII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адемические чтения по космонавтике. Москва, январь 2014 г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слайд </a:t>
            </a:r>
            <a:fld id="{3E31D373-69F4-43A2-A626-16AD1356C8E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vega_logo_transp"/>
          <p:cNvPicPr/>
          <p:nvPr/>
        </p:nvPicPr>
        <p:blipFill>
          <a:blip r:embed="rId2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547640" y="260280"/>
            <a:ext cx="62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делирование раскрытия даль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4"/>
          <a:stretch/>
        </p:blipFill>
        <p:spPr>
          <a:xfrm>
            <a:off x="1979640" y="981000"/>
            <a:ext cx="5686560" cy="4583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395280" y="5734080"/>
            <a:ext cx="8424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Восстановление дальности при спуске с высоты 4500 м со скоростью 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м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/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с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При отработке алгоритмов раскрытия СКО относительной ошибки измерения дальности составляет 0.0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6613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VIII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адемические чтения по космонавтике. Москва, январь 2014 г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слайд </a:t>
            </a:r>
            <a:fld id="{BCA46217-5B3D-4867-9EE0-E76BA874003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vega_logo_transp"/>
          <p:cNvPicPr/>
          <p:nvPr/>
        </p:nvPicPr>
        <p:blipFill>
          <a:blip r:embed="rId3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1547640" y="260280"/>
            <a:ext cx="6266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пределение вектора скор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нормали к поверх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50920" y="1484280"/>
            <a:ext cx="3744720" cy="25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поненты вектора скорости в связанной системе координат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x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=(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4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)/(4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∙sin(</a:t>
            </a:r>
            <a:r>
              <a:rPr b="0" lang="el-GR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ψ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  <a:ea typeface="Tahom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)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y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=(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-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-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4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)/(2∙√2∙cos(</a:t>
            </a:r>
            <a:r>
              <a:rPr b="0" lang="el-GR" sz="1200" spc="-1" strike="noStrike">
                <a:solidFill>
                  <a:srgbClr val="ffffff"/>
                </a:solidFill>
                <a:latin typeface="Arial Unicode MS"/>
              </a:rPr>
              <a:t>ψ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))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z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=(-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-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4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)/(2 ∙√2∙ cos(</a:t>
            </a:r>
            <a:r>
              <a:rPr b="0" lang="el-GR" sz="1200" spc="-1" strike="noStrike">
                <a:solidFill>
                  <a:srgbClr val="ffffff"/>
                </a:solidFill>
                <a:latin typeface="Arial Unicode MS"/>
              </a:rPr>
              <a:t>ψ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))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де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, v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,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v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 Unicode MS"/>
              </a:rPr>
              <a:t>3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,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v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 Unicode MS"/>
              </a:rPr>
              <a:t>4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змерения скорости по луча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572000" y="1484280"/>
            <a:ext cx="4103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Нормаль к плоскости поверхности Луны, определяемая по тройке измерений дальности, имеет вид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ijk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=(D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j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u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j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-D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i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u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i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)x(D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k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u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k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-D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i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u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i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)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Если имеются измерения по всем четырем лучам, то определяются четыре нормали 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4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, 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43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, 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43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, 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13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Добавляем еще один вектор нормал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4231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(D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D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)x(D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D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пользуется осредненный вектор норма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n=(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42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 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143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 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43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n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 Unicode MS"/>
              </a:rPr>
              <a:t>213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+ n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 Unicode MS"/>
              </a:rPr>
              <a:t>4231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)/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332000" y="5516640"/>
            <a:ext cx="7705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Unicode MS"/>
              </a:rPr>
              <a:t>Лавренов С.М., Михайлин Д.А., Тучин А.Г., Тучин Д.А., Фитенко В.В., Ярошевский В.С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Unicode MS"/>
              </a:rPr>
              <a:t>Математическая модель ДИСД в проектах мягкой посадки на Луну 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// </a:t>
            </a:r>
            <a:r>
              <a:rPr b="0" lang="ru-RU" sz="1000" spc="-1" strike="noStrike">
                <a:solidFill>
                  <a:srgbClr val="ffffff"/>
                </a:solidFill>
                <a:latin typeface="Arial Unicode MS"/>
              </a:rPr>
              <a:t>Препринт ИПМ им. М.В. Келдыша РАН №68 за 2013 г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URL: </a:t>
            </a:r>
            <a:r>
              <a:rPr b="0" lang="ru-RU" sz="1200" spc="-1" strike="noStrike" u="sng">
                <a:solidFill>
                  <a:srgbClr val="00ccff"/>
                </a:solidFill>
                <a:uFillTx/>
                <a:latin typeface="Arial Unicode MS"/>
                <a:hlinkClick r:id="rId4"/>
              </a:rPr>
              <a:t>http</a:t>
            </a:r>
            <a:r>
              <a:rPr b="0" lang="ru-RU" sz="1200" spc="-1" strike="noStrike" u="sng">
                <a:solidFill>
                  <a:srgbClr val="00ccff"/>
                </a:solidFill>
                <a:uFillTx/>
                <a:latin typeface="Arial Unicode MS"/>
                <a:hlinkClick r:id="rId5"/>
              </a:rPr>
              <a:t>://</a:t>
            </a:r>
            <a:r>
              <a:rPr b="0" lang="ru-RU" sz="1200" spc="-1" strike="noStrike" u="sng">
                <a:solidFill>
                  <a:srgbClr val="00ccff"/>
                </a:solidFill>
                <a:uFillTx/>
                <a:latin typeface="Arial Unicode MS"/>
                <a:hlinkClick r:id="rId6"/>
              </a:rPr>
              <a:t>www.keldysh.ru</a:t>
            </a:r>
            <a:r>
              <a:rPr b="0" lang="ru-RU" sz="1200" spc="-1" strike="noStrike" u="sng">
                <a:solidFill>
                  <a:srgbClr val="00ccff"/>
                </a:solidFill>
                <a:uFillTx/>
                <a:latin typeface="Arial Unicode MS"/>
                <a:hlinkClick r:id="rId7"/>
              </a:rPr>
              <a:t>/</a:t>
            </a:r>
            <a:r>
              <a:rPr b="0" lang="ru-RU" sz="1200" spc="-1" strike="noStrike" u="sng">
                <a:solidFill>
                  <a:srgbClr val="00ccff"/>
                </a:solidFill>
                <a:uFillTx/>
                <a:latin typeface="Arial Unicode MS"/>
                <a:hlinkClick r:id="rId8"/>
              </a:rPr>
              <a:t>papers</a:t>
            </a:r>
            <a:r>
              <a:rPr b="0" lang="ru-RU" sz="1200" spc="-1" strike="noStrike" u="sng">
                <a:solidFill>
                  <a:srgbClr val="00ccff"/>
                </a:solidFill>
                <a:uFillTx/>
                <a:latin typeface="Arial Unicode MS"/>
                <a:hlinkClick r:id="rId9"/>
              </a:rPr>
              <a:t>/2013/prep2013_68.pdf</a:t>
            </a: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9" descr="IMG_20140127_0001"/>
          <p:cNvPicPr/>
          <p:nvPr/>
        </p:nvPicPr>
        <p:blipFill>
          <a:blip r:embed="rId10"/>
          <a:stretch/>
        </p:blipFill>
        <p:spPr>
          <a:xfrm>
            <a:off x="250920" y="5084640"/>
            <a:ext cx="102240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vega_logo_transp"/>
          <p:cNvPicPr/>
          <p:nvPr/>
        </p:nvPicPr>
        <p:blipFill>
          <a:blip r:embed="rId3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4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vega_logo_transp"/>
          <p:cNvPicPr/>
          <p:nvPr/>
        </p:nvPicPr>
        <p:blipFill>
          <a:blip r:embed="rId5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6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vega_logo_transp"/>
          <p:cNvPicPr/>
          <p:nvPr/>
        </p:nvPicPr>
        <p:blipFill>
          <a:blip r:embed="rId7">
            <a:grayscl/>
          </a:blip>
          <a:stretch/>
        </p:blipFill>
        <p:spPr>
          <a:xfrm>
            <a:off x="8244000" y="115920"/>
            <a:ext cx="793800" cy="7412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2"/>
          <p:cNvSpPr/>
          <p:nvPr/>
        </p:nvSpPr>
        <p:spPr>
          <a:xfrm>
            <a:off x="1692360" y="260280"/>
            <a:ext cx="62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атематическая модель ДИС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13" descr=""/>
          <p:cNvPicPr/>
          <p:nvPr/>
        </p:nvPicPr>
        <p:blipFill>
          <a:blip r:embed="rId8"/>
          <a:stretch/>
        </p:blipFill>
        <p:spPr>
          <a:xfrm>
            <a:off x="108000" y="115920"/>
            <a:ext cx="1224000" cy="868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5"/>
          <p:cNvSpPr/>
          <p:nvPr/>
        </p:nvSpPr>
        <p:spPr>
          <a:xfrm>
            <a:off x="250920" y="1125360"/>
            <a:ext cx="849780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Моделируемые ошибки ДИСД</a:t>
            </a: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Ошибка ориентации ДИСД в связанной СК задается шумом по кватерниону ориентации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Ошибка отклонения лучей от плоскости фазовой решетки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Ошибка отклонения лучей от проектного положения в плоскости фазовой решетки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Ошибки исполнения частот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Ошибки измерения дальности и скорости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Unicode MS"/>
              </a:rPr>
              <a:t>Ошибки телесного угла измерительного лу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7" descr=""/>
          <p:cNvPicPr/>
          <p:nvPr/>
        </p:nvPicPr>
        <p:blipFill>
          <a:blip r:embed="rId9"/>
          <a:stretch/>
        </p:blipFill>
        <p:spPr>
          <a:xfrm>
            <a:off x="5148360" y="3573360"/>
            <a:ext cx="3136680" cy="2167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8"/>
          <p:cNvSpPr/>
          <p:nvPr/>
        </p:nvSpPr>
        <p:spPr>
          <a:xfrm>
            <a:off x="5148360" y="587700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59"/>
          <p:cNvSpPr/>
          <p:nvPr/>
        </p:nvSpPr>
        <p:spPr>
          <a:xfrm>
            <a:off x="5148360" y="5805360"/>
            <a:ext cx="31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Модель луч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2" descr="MoonMIGAIKs70e24 copy"/>
          <p:cNvPicPr/>
          <p:nvPr/>
        </p:nvPicPr>
        <p:blipFill>
          <a:blip r:embed="rId10"/>
          <a:stretch/>
        </p:blipFill>
        <p:spPr>
          <a:xfrm>
            <a:off x="395280" y="3141720"/>
            <a:ext cx="3311640" cy="2924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3"/>
          <p:cNvSpPr/>
          <p:nvPr/>
        </p:nvSpPr>
        <p:spPr>
          <a:xfrm>
            <a:off x="395280" y="602136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нные МИГАиК о поверхности Лу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64"/>
          <p:cNvSpPr/>
          <p:nvPr/>
        </p:nvSpPr>
        <p:spPr>
          <a:xfrm>
            <a:off x="0" y="6613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VIII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адемические чтения по космонавтике. Москва, январь 2014 г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слайд </a:t>
            </a:r>
            <a:fld id="{9F932100-C684-4F42-B3DD-7C2FB90C68A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из 1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08:37:11Z</dcterms:created>
  <dc:creator>den</dc:creator>
  <dc:description/>
  <dc:language>en-US</dc:language>
  <cp:lastModifiedBy>den</cp:lastModifiedBy>
  <dcterms:modified xsi:type="dcterms:W3CDTF">2014-01-30T13:19:32Z</dcterms:modified>
  <cp:revision>64</cp:revision>
  <dc:subject/>
  <dc:title>Слайд 1</dc:title>
</cp:coreProperties>
</file>