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jpeg" ContentType="image/jpe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sldx" ContentType="application/vnd.openxmlformats-officedocument.presentationml.slide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690-D28E-464B-8A7C-3D6E13B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D4C-974E-4E08-986D-FC2F7CC6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9AE-048F-46F4-B83C-9DE634EE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7FA-8A0D-42FC-9412-F88E9A60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A05-B8DD-4615-8CBB-14739DB3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BA3B-12D6-4650-8DEE-624A846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ADBC-9466-49D9-AAD4-6EA1330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0175-758C-4683-88E0-6F187C0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C936-77F5-4300-86A5-F83D57B9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644-5185-49E8-9787-B8D1511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7EB-5E8F-4D02-BDE7-E59F887A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22D-CACC-442E-A5E3-091B2CB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DB9B-4B8C-4EDA-8C53-6191940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0116-F5E0-45CA-AF73-6DA7A52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6B9-F4CA-412C-8240-5C33705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AB5-0639-490C-9684-1A615D62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13F5-C221-4099-8803-4E939DA4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136-D78F-41D6-97DC-AEA6402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23B-3F8D-4C63-9666-FC05B8F6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62B-FEC4-43EA-81FB-1CD4D98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658-23C8-4F0E-BAF7-ABED73B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95B-1DD3-4EC9-A1E1-0FD889D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533-2F47-46D3-A67C-000BBE6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C1B-3A06-4128-ADA8-6305610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ACA56B-1A0A-4007-BD68-D6CA75811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66E0F2-F4CD-4FEF-A4A6-078EDF3D1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sld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124000" y="4149720"/>
            <a:ext cx="518436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Голиков Алексей Роальдович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Times New Roman"/>
              </a:rPr>
              <a:t>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учин Андрей Георгиевич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Times New Roman"/>
              </a:rPr>
              <a:t>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79280" y="6453360"/>
            <a:ext cx="8784720" cy="30852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468360" y="5445000"/>
            <a:ext cx="8280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i="1" lang="ru-RU" sz="2400" spc="-1" strike="noStrike" baseline="30000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нститут прикладной математики им. М.В.Келдыша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250920" y="1125360"/>
            <a:ext cx="8569080" cy="2449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Эволюция движения ИСЗ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на высокоапогейной орбите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с задачей спуска в требуемый район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земной поверхности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5840" y="1341360"/>
            <a:ext cx="8678520" cy="482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очняемые параметры: аргумент перигея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чальной орбиты, дата и время старта 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краевой задачи можно разделить на 2 автономных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параметров для прохождения интервала по шир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buClr>
                <a:srgbClr val="800000"/>
              </a:buClr>
              <a:buSzPct val="90000"/>
              <a:buFont typeface="Wingdings" charset="2"/>
              <a:buAutoNum type="arabicParenR" startAt="2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ение поправки по времени, чтобы попасть в нужный интервал долготы гринвичской вращатель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иск  «оптимальной» орб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1187280" y="3500280"/>
          <a:ext cx="3301560" cy="4536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500280"/>
                    <a:ext cx="3301560" cy="45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356000" y="1905120"/>
          <a:ext cx="914040" cy="19800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190512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1187280" y="5229360"/>
          <a:ext cx="2800080" cy="5029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5229360"/>
                    <a:ext cx="28000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50920" y="1052640"/>
            <a:ext cx="8713440" cy="5184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ая орбита в течение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2761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гей находится постоянно над «окном спус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2761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выше минимально допусти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00000"/>
              </a:buClr>
              <a:buSzPct val="9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ы и последовательность поиска «оптимальной» орб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ое приближение ‒ аналитические 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«пучков» фазовых траекторий, вычисляемых на базе численно-аналитической теор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очнение полученного решения с помощью численного интегрирования (из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следование эволюции орб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356000" y="1905120"/>
          <a:ext cx="914040" cy="1980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90512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1042920" y="1989000"/>
          <a:ext cx="2268000" cy="35208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989000"/>
                    <a:ext cx="226800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1042920" y="2852640"/>
          <a:ext cx="1368000" cy="5281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852640"/>
                    <a:ext cx="1368000" cy="5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79280" y="1341360"/>
            <a:ext cx="8784720" cy="504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ов М.Л., Эволюция орбит искусственных спутников планет под действием гравитационных возмущений внешних те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двукратного осреднения возмущающей функции предложен безразмерный параметр, который разделяет преимущественное влияние динамического сжатия Земли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тяжения Луны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чальной орбиты нашего ИС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68360" y="189000"/>
            <a:ext cx="7272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алитические сх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4211640" y="3860640"/>
          <a:ext cx="4230360" cy="9648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3860640"/>
                    <a:ext cx="4230360" cy="96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5580000" y="5300640"/>
          <a:ext cx="2203200" cy="40752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0000" y="5300640"/>
                    <a:ext cx="2203200" cy="4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-12600" y="0"/>
          <a:ext cx="9156240" cy="6857640"/>
        </p:xfrm>
        <a:graphic>
          <a:graphicData uri="http://schemas.openxmlformats.org/presentationml/2006/ole">
            <p:oleObj progId="PowerPoint.Slide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0"/>
                    <a:ext cx="91562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лгопериодические возму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6"/>
          <p:cNvGraphicFramePr/>
          <p:nvPr/>
        </p:nvGraphicFramePr>
        <p:xfrm>
          <a:off x="179280" y="1268280"/>
          <a:ext cx="791640" cy="3330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791640" cy="33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"/>
          <p:cNvGraphicFramePr/>
          <p:nvPr/>
        </p:nvGraphicFramePr>
        <p:xfrm>
          <a:off x="179280" y="1916280"/>
          <a:ext cx="8741880" cy="190476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916280"/>
                    <a:ext cx="8741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"/>
          <p:cNvGraphicFramePr/>
          <p:nvPr/>
        </p:nvGraphicFramePr>
        <p:xfrm>
          <a:off x="179280" y="4221000"/>
          <a:ext cx="8699040" cy="165528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4221000"/>
                    <a:ext cx="8699040" cy="165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имущест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HEONA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8391240" cy="500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440"/>
              </a:spcBef>
              <a:buSzPct val="100000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йлеровых элементов орбиты 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го векторов состояния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еобходимости их дополнительного соглас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40"/>
              </a:spcBef>
              <a:buSzPct val="100000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интегрирование с использованием специальных функц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эффективное вычисление других возмущен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битальный прогноз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ысок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~1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, чем при численном интегрирован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хорошей точность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ая погреш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-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вой верс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-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торой версии – 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рядка то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Логотип ИПМ РАН"/>
          <p:cNvPicPr/>
          <p:nvPr/>
        </p:nvPicPr>
        <p:blipFill>
          <a:blip r:embed="rId4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3857760" y="1714680"/>
          <a:ext cx="1294920" cy="49968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1714680"/>
                    <a:ext cx="129492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принцип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HEONA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1" name="Picture 4" descr="Логотип ИПМ РАН"/>
          <p:cNvPicPr/>
          <p:nvPr/>
        </p:nvPicPr>
        <p:blipFill>
          <a:blip r:embed="rId1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0" y="3300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0920" y="1413000"/>
            <a:ext cx="87134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бита (с эйлеровыми элементами    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м решении (в квадратурах) Обобщённой задачи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подвижных центр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P2FC)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.П.Аксёнов, Е.А.Гребеников, В.Г.Дём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итков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интегр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ущ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оскулирующих эйлеровых элементов внутри кажд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а вычисляются анали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ущён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ют специальные функции от орбитальны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1619280" y="3573360"/>
          <a:ext cx="2736360" cy="49176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9280" y="3573360"/>
                    <a:ext cx="2736360" cy="4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2484360" y="4149720"/>
          <a:ext cx="923400" cy="461520"/>
        </p:xfrm>
        <a:graphic>
          <a:graphicData uri="http://schemas.openxmlformats.org/presentationml/2006/ole">
            <p:oleObj progId="Equation.DSMT4" r:id="rId8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4149720"/>
                    <a:ext cx="923400" cy="46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"/>
          <p:cNvGraphicFramePr/>
          <p:nvPr/>
        </p:nvGraphicFramePr>
        <p:xfrm>
          <a:off x="7380360" y="1413000"/>
          <a:ext cx="325080" cy="480600"/>
        </p:xfrm>
        <a:graphic>
          <a:graphicData uri="http://schemas.openxmlformats.org/presentationml/2006/ole">
            <p:oleObj progId="Equation.DSMT4" r:id="rId10" spid="">
              <p:embed/>
              <p:pic>
                <p:nvPicPr>
                  <p:cNvPr id="189" name="Object 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80360" y="1413000"/>
                    <a:ext cx="325080" cy="48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61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ециальные функции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2" name="Picture 3" descr="Логотип ИПМ РАН"/>
          <p:cNvPicPr/>
          <p:nvPr/>
        </p:nvPicPr>
        <p:blipFill>
          <a:blip r:embed="rId1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50920" y="1125360"/>
            <a:ext cx="864036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и двух переменны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826920" y="1628640"/>
          <a:ext cx="6608520" cy="88380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628640"/>
                    <a:ext cx="6608520" cy="88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7"/>
          <p:cNvSpPr/>
          <p:nvPr/>
        </p:nvSpPr>
        <p:spPr>
          <a:xfrm>
            <a:off x="500040" y="4500720"/>
            <a:ext cx="7500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800000"/>
              </a:buClr>
              <a:buFont typeface="Wingdings" charset="2"/>
              <a:buChar char=""/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Коэффициенты Ганзена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вляются частным случа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1957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32432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000080" y="4929120"/>
          <a:ext cx="3792240" cy="58068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0080" y="4929120"/>
                    <a:ext cx="3792240" cy="58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1"/>
          <p:cNvSpPr/>
          <p:nvPr/>
        </p:nvSpPr>
        <p:spPr>
          <a:xfrm>
            <a:off x="500040" y="3071880"/>
            <a:ext cx="7095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8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Связь  с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цилиндрическими функциями Бесселя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рода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модифицированными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”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функциями Якоби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31860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1000080" y="3714840"/>
          <a:ext cx="5109840" cy="818640"/>
        </p:xfrm>
        <a:graphic>
          <a:graphicData uri="http://schemas.openxmlformats.org/presentationml/2006/ole">
            <p:oleObj progId="Equation.DSMT4" r:id="rId7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0080" y="3714840"/>
                    <a:ext cx="5109840" cy="81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5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31957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2500200"/>
            <a:ext cx="6012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1332000" y="2565360"/>
          <a:ext cx="333000" cy="267840"/>
        </p:xfrm>
        <a:graphic>
          <a:graphicData uri="http://schemas.openxmlformats.org/presentationml/2006/ole">
            <p:oleObj progId="Equation.DSMT4" r:id="rId9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2565360"/>
                    <a:ext cx="33300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5"/>
          <p:cNvSpPr/>
          <p:nvPr/>
        </p:nvSpPr>
        <p:spPr>
          <a:xfrm>
            <a:off x="1692360" y="2492280"/>
            <a:ext cx="54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редняя аномалия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    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истинная аном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4284720" y="2565360"/>
          <a:ext cx="285480" cy="285480"/>
        </p:xfrm>
        <a:graphic>
          <a:graphicData uri="http://schemas.openxmlformats.org/presentationml/2006/ole">
            <p:oleObj progId="Equation.DSMT4" r:id="rId11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565360"/>
                    <a:ext cx="2854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5"/>
          <p:cNvSpPr/>
          <p:nvPr/>
        </p:nvSpPr>
        <p:spPr>
          <a:xfrm>
            <a:off x="4356000" y="5589720"/>
            <a:ext cx="545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7"/>
          <p:cNvGraphicFramePr/>
          <p:nvPr/>
        </p:nvGraphicFramePr>
        <p:xfrm>
          <a:off x="5003640" y="5373720"/>
          <a:ext cx="3223800" cy="785520"/>
        </p:xfrm>
        <a:graphic>
          <a:graphicData uri="http://schemas.openxmlformats.org/presentationml/2006/ole">
            <p:oleObj progId="Equation.DSMT4" r:id="rId1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5373720"/>
                    <a:ext cx="32238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волюция орбиты ИС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D:\Alexei\Travaux_KIAM\Апогей_БиоСпутник\23092013\Апогей-ИПМ _Рис_2.jpg"/>
          <p:cNvPicPr/>
          <p:nvPr/>
        </p:nvPicPr>
        <p:blipFill>
          <a:blip r:embed="rId2"/>
          <a:stretch/>
        </p:blipFill>
        <p:spPr>
          <a:xfrm>
            <a:off x="0" y="981000"/>
            <a:ext cx="9143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волюция орбиты ИС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Alexei\Travaux_KIAM\Апогей_БиоСпутник\23092013\Апогей-ИПМ _Рис_4.jpg"/>
          <p:cNvPicPr/>
          <p:nvPr/>
        </p:nvPicPr>
        <p:blipFill>
          <a:blip r:embed="rId2"/>
          <a:stretch/>
        </p:blipFill>
        <p:spPr>
          <a:xfrm>
            <a:off x="0" y="981000"/>
            <a:ext cx="9143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24000" y="1285920"/>
            <a:ext cx="8640360" cy="487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Проект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роблем баллистического обеспечения мягкого спуска возвращаемого аппарата с высокоапогейных орбит ИСЗ с парамет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апогея 60000÷200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500÷1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рбиты при вывед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апогея 200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5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лонение орбиты 5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активного существования ИСЗ на орб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погей-ИП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79280" y="1052640"/>
            <a:ext cx="8784720" cy="525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  класс «устойчивых» орбит КА на протяжении 1 года активного существования. Его 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та перигея орбиты КА практически не изменяется, что обеспечивает регулярное существование перигея над заданной широтой номинального района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говременное существование орбиты ИСЗ на пассивном участке без снижения минимальной высоты вне зависимости от аномалий параметров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регулярного появления «окон» для спуска 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ции для поддержания рабочей орбиты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треб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схода КА обеспечивается путём выбора вариации долготы перицентра орбиты КА с целью попадания в заданный номинальный район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68360" y="189000"/>
            <a:ext cx="719892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езультаты баллистического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179280" y="1484280"/>
            <a:ext cx="8784720" cy="453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а оценка необходимости проведения коррекций для найденного класса «устойчивых» рабочих орбит 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ции для поддержания рабочей орбиты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треб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уются коррекции для формирования предспусковой орбиты 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уются коррекции для парирования ошибок выведения на рабочую орб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етические затраты коррекции для формирования предспусковой орбиты ВА зависят от выбора схемы комфортабельного спуска и не превышают 200 м/с для разных вариантов и при различных параметрах 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и орбиты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800" spc="-1" strike="noStrike">
                <a:solidFill>
                  <a:srgbClr val="3399ff"/>
                </a:solidFill>
                <a:latin typeface="Verdana"/>
              </a:rPr>
              <a:t>Баллистический центр ИПМ им. М.В.Келдыша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285840" y="2781360"/>
            <a:ext cx="8678520" cy="331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ru-RU" sz="4800" spc="-1" strike="noStrike">
                <a:solidFill>
                  <a:srgbClr val="7030a0"/>
                </a:solidFill>
                <a:latin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500040" y="189000"/>
            <a:ext cx="72864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погей-ИП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79280" y="1341360"/>
            <a:ext cx="8784720" cy="475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задачи «мягкого спуска» возвращаемого аппарата с высокоапогейных орбит ИСЗ в заданный район посадки на территории России (около космодрома «Восточный») после завершения программы космических экспери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эволюции высокоапогейной орбиты 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ценка необходимости  проведения коррекций для поддержа-ния рабочей орбиты и формирования предспусковой орб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«окон» для спуска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схемы «мягкого спуска», определение параметров входа в атмосферу ВА и необходимых энергетических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авленные 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79280" y="1125360"/>
            <a:ext cx="8784720" cy="518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начальной орбиты 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высота (в апогее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20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ыс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ая высота (в перигее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центриситет начальной орби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= 0.93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лонение начальной орби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одром «Восточный»: широта 51°49' с.ш., 128°15' 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 активного существования КА на 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Wingdings" charset="2"/>
              <a:buChar char=""/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оекты-аналоги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З «Прогноз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нтербол-1»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II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 орбиты 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2987640" y="4797360"/>
          <a:ext cx="5847840" cy="50292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797360"/>
                    <a:ext cx="58478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2"/>
          <p:cNvGraphicFramePr/>
          <p:nvPr/>
        </p:nvGraphicFramePr>
        <p:xfrm>
          <a:off x="2987640" y="5229360"/>
          <a:ext cx="5984640" cy="49500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5229360"/>
                    <a:ext cx="598464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2987640" y="5661000"/>
          <a:ext cx="5938560" cy="4363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5661000"/>
                    <a:ext cx="5938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79280" y="1341360"/>
            <a:ext cx="8784720" cy="496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 активного существования КА на 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а оценка необходимости проведения коррекций для найденного класса «устойчивых» рабочих орбит 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ются, в качестве базовых, разработанные в БЦ ИПМ математические инструменты для баллистического анали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енно-аналитическая теор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ижения ИС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 програм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поставлен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85840" y="1341360"/>
            <a:ext cx="8389440" cy="46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а спуска ВА в заданный район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ный район можно описать (в приближённом варианте) интервалами геодезических координат шир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олг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я из координат района и параметров конечной орбиты ИСЗ, можно получить «мозаичное окно», определяемое геоцентрическими координатами ИСЗ: шир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олг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ом начинается спуск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того нужно знать такж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арактерист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звращаемого аппарата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х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го с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а  с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79280" y="1052640"/>
            <a:ext cx="8784720" cy="525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а оценка величины скорости (10.918 км/с) и угла входа (4.96°) КА в атмосф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аэродинамического качества (и его управление) для комфортабельности входа КА в атмосф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ны варианты выбора проектного аэродинамического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аппарата в форме затуплённого конуса со смещённым центром мас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.25 ÷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ерные варианты с 1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K &lt;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(менее веро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листический сценарий с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-два рикош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жим квазистационар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68360" y="189000"/>
            <a:ext cx="719892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Анализ условий входа в атмосф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68360" y="189000"/>
            <a:ext cx="7488000" cy="86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ход 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висимость: угол наклона / относительн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440" cy="53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285840" y="1413000"/>
            <a:ext cx="8678520" cy="482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расчетов по оценке распределения «окон» для спуска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«окон» оценивается при анализе эволюции орбиты и выполнении начальных и граничны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ые условия определяются значениями большой полуоси, эксцентриситета и наклонения орб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ичн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27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гей находится над «окном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27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не превышает заданную для спу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пределение «окон» с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5724360" y="4292640"/>
          <a:ext cx="3228480" cy="50292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4292640"/>
                    <a:ext cx="32284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6659640" y="5229360"/>
          <a:ext cx="1361880" cy="47736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5229360"/>
                    <a:ext cx="1361880" cy="47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4</TotalTime>
  <Application>LibreOffice/7.4.7.2$Linux_X86_64 LibreOffice_project/40$Build-2</Application>
  <AppVersion>15.0000</AppVersion>
  <Words>1292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5:26:38Z</dcterms:created>
  <dc:creator>Alexei Golikov</dc:creator>
  <dc:description/>
  <dc:language>en-US</dc:language>
  <cp:lastModifiedBy>den</cp:lastModifiedBy>
  <dcterms:modified xsi:type="dcterms:W3CDTF">2014-02-03T05:35:00Z</dcterms:modified>
  <cp:revision>602</cp:revision>
  <dc:subject/>
  <dc:title>Formation Fly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